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240D-4176-42DD-B8E2-3530E22F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9F55-F7DF-46FA-96C7-03795641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C3FA-CE34-4F23-8831-9D588F2A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33EB-6F44-4B8A-A63A-5F053D9A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48C-36EE-42D9-A591-46968442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BAA-A911-4B49-91CE-44ABA9D1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BC5-74F2-4410-9A2F-559532BB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D8D-0A5D-48F7-A457-E47F5296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C9A-085B-4C53-B619-D6ACC83B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6ACC-C15E-4BC8-BB95-0AE34249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EAEA-097D-4D15-A123-0B1CE0BE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A453-B6CC-41EB-93E4-B7D62F5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AABA-5FE2-4E9B-8287-D8137F18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599-22EB-4E47-85FD-404B836A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A20-4E7F-45F8-9C13-BD79109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0A7-B71A-456C-9E18-3F142E15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212E-9A2E-4DFF-B4CA-B20E26A0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2DA-42C3-4288-B9EA-B1E124C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A9FD-7890-4CFA-9448-531684C8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AA2-D59E-496F-A595-0FE36905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F42-0E98-42EE-ACF2-E4A7E0C4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4A1-A98D-49F4-9C8B-F7B25CA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FEF-9396-4A61-ADD0-FFB24280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6D4-B6B6-4831-99AF-8665377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F1A-CD92-47D5-869B-2BE64980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696-51C0-45B7-A596-73E65475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D15-69DE-4322-8788-BA9D252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AC7-6B74-4F86-AE87-2BB53E8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66D9-B1C6-4FCA-8CC5-85BC5A62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1FA-8DD4-4DAD-AFAF-FDDB876DA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dentifying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r Depend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2 main types of variabl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he variable that is changed by the scientist; th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 control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he variable that might change because of what the scientist changes – what is being measu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hypothesis can TELL you what your variables a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f I drink Mountain Dew before bed, then I will not sleep very muc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V: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Drinking Mountain Dew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V: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the amount of slee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ants and Contr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tan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mething that scientist makes sure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roughout the experi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Watering the plants the same amount of water or making sure you are testing the same person every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tro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tro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part of the experiment that the scientist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change or add the variable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The plant with the sunlight (It’s normal condition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ults of the experiment; is your hypothesi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 or wrong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supporting data from the experi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2:29:05Z</dcterms:created>
  <dc:creator>K. Ubbing</dc:creator>
  <dc:description/>
  <dc:language>en-US</dc:language>
  <cp:lastModifiedBy>Denice Fogel User</cp:lastModifiedBy>
  <dcterms:modified xsi:type="dcterms:W3CDTF">2013-01-16T02:02:45Z</dcterms:modified>
  <cp:revision>7</cp:revision>
  <dc:subject/>
  <dc:title>Identifying Variables</dc:title>
</cp:coreProperties>
</file>